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BA8-69F0-4840-BE48-82E4970F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4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197-45BE-47AD-A660-295F73DA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73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373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350-E8B3-4E29-AA6D-810C3660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13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56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40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13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56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BC41-FA39-40A4-BCCD-F2A3D50F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6E9B-FCA9-4FB4-9DA0-7BDAB3D1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057400" y="40381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B09C-AE82-40BA-9906-48A45A96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763E-BAEE-45EE-86FE-E3DBE4B4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373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2F21-7E55-4F39-BD62-F501285D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FBA0-401E-434A-B11C-69400638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76160" y="1828800"/>
            <a:ext cx="7086600" cy="847836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7EAB-981A-4E63-9D78-EBFE865C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373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0574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FB9F-9BC8-4004-BB7A-B529FF3A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400" y="40381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8FE-38EE-48F4-9C8F-9285098F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73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73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37BA-7A35-4CCA-9DCB-1E2E45CE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74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EDDF-6752-4765-98FB-5BCE534B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0574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5AA3-A25F-4009-A932-AEB36CDC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373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DAA0-5FE1-4FD6-A113-1793DF25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13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856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05740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13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856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2663-0304-4D8D-BDE9-5B73ED37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D55-893D-4227-BFFF-003F8036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373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CB1-3FB8-4E23-961D-66CA87C6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D108-C81F-4417-8D5D-1834AD11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160" y="1828800"/>
            <a:ext cx="7086600" cy="847836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48F-A892-4825-9AF8-D2045713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373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4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172-B85E-47FD-8A45-3B21699A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73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8B7-A00C-4EEB-9A79-114B7413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4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5FB-6EAC-401C-B472-7CF19D15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0579-8793-4BCF-B302-32B3ACF1C751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61F1-124D-48F9-AE8E-D10F342B4E5B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Very Ordinal Poetr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800" y="4038120"/>
            <a:ext cx="6781680" cy="175284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ed By Thomas J. Palumb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The Catapult Learning Seri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ATC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1676160"/>
            <a:ext cx="7086600" cy="53316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ery Ordinal Poet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61760" y="4038120"/>
            <a:ext cx="8458200" cy="121932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rst…I jumped out of a comfortable bed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…Was Breck shampoo all over my hea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1676160"/>
            <a:ext cx="7086600" cy="53316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ery Ordinal Poet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1760" y="4038120"/>
            <a:ext cx="8458200" cy="121932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…Pancakes at the breakfast table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…A chewy dog bone for Mabel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1676160"/>
            <a:ext cx="7086600" cy="53316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ery Ordinal Poet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1760" y="4038120"/>
            <a:ext cx="8458200" cy="121932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…It’s bags packed and out the door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…The mandatory stop at the candy stor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1676160"/>
            <a:ext cx="7086600" cy="53316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ery Ordinal Poet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1760" y="4038120"/>
            <a:ext cx="8458200" cy="121932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…I arrive at school, once again late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ighth…Staring at a math test marked with a grea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1676160"/>
            <a:ext cx="7086600" cy="53316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ery Ordinal Poet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4038120"/>
            <a:ext cx="8763120" cy="121932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inth…Attending classes one and all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enth… Pushing and shoving on the way to the mall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1676160"/>
            <a:ext cx="7086600" cy="53316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ery Ordinal Poet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fter highlighting an event from your life try chronicling a famous person’s exploits in an ordinal poem or take the sequence of a sporting event and try to put it into a similar rhyme schem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01:53:13Z</dcterms:created>
  <dc:creator>Carol Kane</dc:creator>
  <dc:description/>
  <dc:language>en-US</dc:language>
  <cp:lastModifiedBy>Tom Palumbo</cp:lastModifiedBy>
  <dcterms:modified xsi:type="dcterms:W3CDTF">2009-02-26T19:52:35Z</dcterms:modified>
  <cp:revision>5</cp:revision>
  <dc:subject/>
  <dc:title>Very Ordinal Poetry</dc:title>
</cp:coreProperties>
</file>